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965-FCCD-46EC-B606-CF44D532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959-580C-446B-BA87-256EEF5F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65A-E674-4003-97DE-602B48A8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37F-0128-445B-8B8C-CCC21B08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0D8-D058-4669-BA36-263BB565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3EF-7F52-49B2-AEEB-514EA76B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2BD-C621-461F-90A3-4455AB7B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011-82B4-4BCE-AC96-A5B66B12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A60-9663-4B2F-8914-654235E0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063-2398-4CFF-8B2C-61B36AF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76E-74DD-4C96-9C1D-84D20A6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EEF-6625-40E7-9245-4A145C54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BE31-11CC-43BF-9C8B-7520C7C02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685800" y="1219320"/>
            <a:ext cx="7561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nit 10</a:t>
            </a:r>
            <a:r>
              <a:rPr b="1" i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f you go to the party, you’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ave a good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2057400" y="4038480"/>
            <a:ext cx="4343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Section A 2a-2d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10600" y="1487160"/>
            <a:ext cx="845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ff: Hey, Ben. For the party next week, should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people to bring f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: No, let’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o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restaurant. If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people to bring food, they’ll just bring pot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s and chocolate because they’ll b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z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ff: Ok. For the games, do you think we should g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some small gifts if they w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: I think that’s a great idea! If we do that,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will want to play the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ff: Yes, the games will be more exciting,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0" y="609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d Role-play the conver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线形标注 2(带强调线) 3"/>
          <p:cNvSpPr/>
          <p:nvPr/>
        </p:nvSpPr>
        <p:spPr>
          <a:xfrm>
            <a:off x="6400800" y="762120"/>
            <a:ext cx="2057400" cy="761760"/>
          </a:xfr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er…fro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线形标注 2(带强调线) 4"/>
          <p:cNvSpPr/>
          <p:nvPr/>
        </p:nvSpPr>
        <p:spPr>
          <a:xfrm>
            <a:off x="6781680" y="4114800"/>
            <a:ext cx="1905120" cy="533520"/>
          </a:xfr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o…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而不能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Section A 2d.mp3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4537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371600" y="0"/>
            <a:ext cx="222876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Reading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62120" y="588960"/>
            <a:ext cx="81295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ad the conversation and answer the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89080" y="1800360"/>
            <a:ext cx="860400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. What will happen if we ask people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ring food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. What will happen if we give people som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mall gifts if they win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5543640"/>
            <a:ext cx="78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More people will want to play the gam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84360" y="3024360"/>
            <a:ext cx="831852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They’ll just bring potato chips and chocolate because they’ll be too lazy to cook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圆角矩形标注 6"/>
          <p:cNvSpPr/>
          <p:nvPr/>
        </p:nvSpPr>
        <p:spPr>
          <a:xfrm>
            <a:off x="395280" y="1474920"/>
            <a:ext cx="3960720" cy="2952720"/>
          </a:xfrm>
          <a:prstGeom prst="wedgeRoundRectCallout">
            <a:avLst>
              <a:gd name="adj1" fmla="val -12763"/>
              <a:gd name="adj2" fmla="val 73277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y, Ben. For the party next week, should we ask people to bring f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标注 7"/>
          <p:cNvSpPr/>
          <p:nvPr/>
        </p:nvSpPr>
        <p:spPr>
          <a:xfrm>
            <a:off x="4500720" y="2349360"/>
            <a:ext cx="4643280" cy="1079640"/>
          </a:xfrm>
          <a:prstGeom prst="wedgeRoundRectCallout">
            <a:avLst>
              <a:gd name="adj1" fmla="val -16736"/>
              <a:gd name="adj2" fmla="val 103972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let’s order food from a restauran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700360" y="75564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ole-play the convers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对话1"/>
          <p:cNvPicPr/>
          <p:nvPr/>
        </p:nvPicPr>
        <p:blipFill>
          <a:blip r:embed="rId1"/>
          <a:stretch/>
        </p:blipFill>
        <p:spPr>
          <a:xfrm>
            <a:off x="5940360" y="4149720"/>
            <a:ext cx="1585800" cy="2400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对话2"/>
          <p:cNvPicPr/>
          <p:nvPr/>
        </p:nvPicPr>
        <p:blipFill>
          <a:blip r:embed="rId2"/>
          <a:stretch/>
        </p:blipFill>
        <p:spPr>
          <a:xfrm>
            <a:off x="2050920" y="4581360"/>
            <a:ext cx="1185840" cy="2060640"/>
          </a:xfrm>
          <a:prstGeom prst="rect">
            <a:avLst/>
          </a:prstGeom>
          <a:ln w="0">
            <a:noFill/>
          </a:ln>
        </p:spPr>
      </p:pic>
      <p:sp>
        <p:nvSpPr>
          <p:cNvPr id="132" name="圆角矩形标注 7"/>
          <p:cNvSpPr/>
          <p:nvPr/>
        </p:nvSpPr>
        <p:spPr>
          <a:xfrm>
            <a:off x="4572000" y="5805360"/>
            <a:ext cx="1368360" cy="649440"/>
          </a:xfrm>
          <a:prstGeom prst="wedgeRoundRectCallout">
            <a:avLst>
              <a:gd name="adj1" fmla="val -115199"/>
              <a:gd name="adj2" fmla="val -111370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74600" y="189000"/>
            <a:ext cx="24526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Role-play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04920" y="1295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The students are talking about when to have a clas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et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57200" y="2286000"/>
            <a:ext cx="807732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et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名词，意为“会议，集会；会面”，作“聚会”解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指出于偶然的机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某地与某人相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et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“会议”解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任何有组织的、有领导的、公开的或私下的各种集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在室内举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目的是商讨议案、作出决定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eting will deal with these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meeting in Beijing was later than I expec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et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作主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谓语动词多用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单数形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前常加介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“在会议上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而表示“在会议期间私下说话”则用介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1905120" y="533520"/>
            <a:ext cx="5073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anguage poin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304920" y="7621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What will happe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have the party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762120" y="1447920"/>
            <a:ext cx="7619760" cy="40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为连词，引导条件状语从句，表示“假如”“如果”等。引导条件状语从句最常用的连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表示在某条件下，某事很可能发生，主句不能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going 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将来，而应该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leave now, you will never regre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你现在离开，你将绝不会后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引导的条件状语从句，其结构为：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＋一般现在时 ，主语＋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hall/will+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动词原形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注意在状语从句中有一个规则是“主将从现”，即主句是将来时，则从句要用一般现在时表示将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t rains tomorrow, I shan’t climb the h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明天下雨，我将不会爬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609480" y="8380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What will Mark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gani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762120" y="1447920"/>
            <a:ext cx="761976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rganiz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动词，意为“组织，筹备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过去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d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即组织某人或某事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某人或某事物编入组织或系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使之相互联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且每一个体在组织中都有其恰当的作用或职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elieve I have the ability to organize a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相信我有能力组织一次社交聚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't ask them to organize the trip, they'll only screw everything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别让他们组织此行，他们准得把一切都搞糟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rganiz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还可作形容词，意为“有组织的，有条理的”，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ganized program of advertisement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组织的大规模的广告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327320" y="1820880"/>
            <a:ext cx="6400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238400" y="2717640"/>
            <a:ext cx="309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24000" y="2546280"/>
            <a:ext cx="396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I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et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up at 9:0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4000" y="3193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I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m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lat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24000" y="38419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the teache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angry with 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457200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在以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引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条件状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从句，  如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主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_____________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那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f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引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______________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来表示将来可能发生的动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或存在的状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也就是所谓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__________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24000" y="1898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f s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happy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ll play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the guitar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429720" y="2577960"/>
            <a:ext cx="21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ill b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365920" y="3263760"/>
            <a:ext cx="53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he teache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ill b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angry with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716080" y="3873600"/>
            <a:ext cx="20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ill b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s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295280" y="6094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总结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引导的条件状语从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主句和从句时态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1401480" y="4967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般将来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7291800" y="4952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般现在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-76320" y="1676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971960" y="5791320"/>
            <a:ext cx="17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主将从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844640"/>
            <a:ext cx="8507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If w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eopl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ing food, they’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ust bring potato chips and chocolat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sk sb. to do sth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请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要求某人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k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doctor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him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请求医生告诉他真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9528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Yes, the games will be mor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xci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too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citing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意为“令人兴奋的、令人激动的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The movie has a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xci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pe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电影的开头非常刺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95280" y="1557360"/>
            <a:ext cx="84265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前者是“对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感到兴奋”，通常主语是人，后者是“令人感到兴奋的”，通常主语是物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事件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you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xcited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out going to Beijing?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要去北京了，感到兴奋吗？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us a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xci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tory yesterday.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昨天给我们讲了一个使人激动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辨析"/>
          <p:cNvPicPr/>
          <p:nvPr/>
        </p:nvPicPr>
        <p:blipFill>
          <a:blip r:embed="rId1"/>
          <a:stretch/>
        </p:blipFill>
        <p:spPr>
          <a:xfrm>
            <a:off x="1042920" y="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4"/>
          <p:cNvSpPr txBox="1"/>
          <p:nvPr/>
        </p:nvSpPr>
        <p:spPr>
          <a:xfrm>
            <a:off x="2843280" y="50472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citing&amp;excited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2771640" y="260280"/>
            <a:ext cx="475308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New  Words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1835280" y="3068640"/>
            <a:ext cx="56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ideo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录像带；录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403280" y="5589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tato chips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炸土豆片；炸薯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2484360" y="1413000"/>
            <a:ext cx="59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vide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n the bookshel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录像带在书架上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1800360" y="3860640"/>
            <a:ext cx="680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’d like som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otato chip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想买些薯条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http://t2.baidu.com/it/u=128009108,3004276451&amp;fm=23&amp;gp=0.jpg"/>
          <p:cNvPicPr/>
          <p:nvPr/>
        </p:nvPicPr>
        <p:blipFill>
          <a:blip r:embed="rId1"/>
          <a:srcRect l="0" t="0" r="0" b="4946"/>
          <a:stretch/>
        </p:blipFill>
        <p:spPr>
          <a:xfrm>
            <a:off x="0" y="3724200"/>
            <a:ext cx="1595520" cy="18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0" y="1413000"/>
            <a:ext cx="1658880" cy="2516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2556000" y="765000"/>
            <a:ext cx="360036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Exercises</a:t>
            </a:r>
            <a:endParaRPr b="1" lang="en-US" sz="4000" spc="1" strike="noStrike">
              <a:ln w="9360">
                <a:solidFill>
                  <a:srgbClr val="99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03280" y="192564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用括号内所给单词的正确形式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31640" y="2646360"/>
            <a:ext cx="8172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’ll buy a computer if I _______ (hav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ugh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’m sure if he _____ (go) to the par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________  (have) a great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869080" y="2622600"/>
            <a:ext cx="1008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706920" y="41562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1476360" y="494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360360" y="1197000"/>
            <a:ext cx="84596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You ___________ (not get) nervous i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_____ (do ) enough exerc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If she _______ (finish ) work early, s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 (go)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If it _____(rain), we ________ (stay) 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122560" y="20667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050920" y="278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inis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885960" y="345744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619280" y="41990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ins                    will st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2124000" y="1268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n’t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xinsrc_562080329160557823978196"/>
          <p:cNvPicPr/>
          <p:nvPr/>
        </p:nvPicPr>
        <p:blipFill>
          <a:blip r:embed="rId1"/>
          <a:stretch/>
        </p:blipFill>
        <p:spPr>
          <a:xfrm>
            <a:off x="1042920" y="620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3"/>
          <p:cNvSpPr txBox="1"/>
          <p:nvPr/>
        </p:nvSpPr>
        <p:spPr>
          <a:xfrm>
            <a:off x="3059280" y="1125360"/>
            <a:ext cx="30254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258920" y="2205000"/>
            <a:ext cx="674208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your mother your plans about a pa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view the new words and expressions on page 7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view the letter from Tina to Su Me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心1"/>
          <p:cNvPicPr/>
          <p:nvPr/>
        </p:nvPicPr>
        <p:blipFill>
          <a:blip r:embed="rId2"/>
          <a:stretch/>
        </p:blipFill>
        <p:spPr>
          <a:xfrm>
            <a:off x="826920" y="2421000"/>
            <a:ext cx="349560" cy="295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心1"/>
          <p:cNvPicPr/>
          <p:nvPr/>
        </p:nvPicPr>
        <p:blipFill>
          <a:blip r:embed="rId3"/>
          <a:stretch/>
        </p:blipFill>
        <p:spPr>
          <a:xfrm>
            <a:off x="826920" y="3573360"/>
            <a:ext cx="349560" cy="295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心1"/>
          <p:cNvPicPr/>
          <p:nvPr/>
        </p:nvPicPr>
        <p:blipFill>
          <a:blip r:embed="rId4"/>
          <a:stretch/>
        </p:blipFill>
        <p:spPr>
          <a:xfrm>
            <a:off x="826920" y="4862520"/>
            <a:ext cx="349560" cy="29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1"/>
          <p:cNvSpPr/>
          <p:nvPr/>
        </p:nvSpPr>
        <p:spPr>
          <a:xfrm>
            <a:off x="2268360" y="21337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ocolate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巧克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2268360" y="549360"/>
            <a:ext cx="6409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lik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ocola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ce-cream b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最喜欢巧克力冰淇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0" descr="http://t2.baidu.com/it/u=275897133,2713858801&amp;fm=23&amp;gp=0.jpg"/>
          <p:cNvPicPr/>
          <p:nvPr/>
        </p:nvPicPr>
        <p:blipFill>
          <a:blip r:embed="rId1"/>
          <a:srcRect l="0" t="0" r="0" b="2829"/>
          <a:stretch/>
        </p:blipFill>
        <p:spPr>
          <a:xfrm>
            <a:off x="468360" y="333360"/>
            <a:ext cx="1719360" cy="2016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611280" y="5445000"/>
            <a:ext cx="738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eting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.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会议；集会；会面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564000" y="3141720"/>
            <a:ext cx="5184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ee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n Wednes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议是在星期三吗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http://t1.baidu.com/it/u=2959723576,2029545495&amp;fm=23&amp;gp=0.jpg"/>
          <p:cNvPicPr/>
          <p:nvPr/>
        </p:nvPicPr>
        <p:blipFill>
          <a:blip r:embed="rId2"/>
          <a:stretch/>
        </p:blipFill>
        <p:spPr>
          <a:xfrm>
            <a:off x="442800" y="3213000"/>
            <a:ext cx="2689200" cy="2016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1295280" y="5486400"/>
            <a:ext cx="630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ganize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组织；筹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295280" y="3860640"/>
            <a:ext cx="622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rganiz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occer ga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让我们组织一次足球比赛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足球比赛"/>
          <p:cNvPicPr/>
          <p:nvPr/>
        </p:nvPicPr>
        <p:blipFill>
          <a:blip r:embed="rId1"/>
          <a:srcRect l="0" t="0" r="0" b="14322"/>
          <a:stretch/>
        </p:blipFill>
        <p:spPr>
          <a:xfrm>
            <a:off x="1368360" y="547560"/>
            <a:ext cx="4824360" cy="3022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3"/>
          <p:cNvSpPr/>
          <p:nvPr/>
        </p:nvSpPr>
        <p:spPr>
          <a:xfrm>
            <a:off x="380880" y="609480"/>
            <a:ext cx="77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a. Listen and circle the correct answer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lete the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" descr="A-2a.png"/>
          <p:cNvPicPr/>
          <p:nvPr/>
        </p:nvPicPr>
        <p:blipFill>
          <a:blip r:embed="rId1"/>
          <a:stretch/>
        </p:blipFill>
        <p:spPr>
          <a:xfrm>
            <a:off x="5181480" y="2819520"/>
            <a:ext cx="3310200" cy="255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533520" y="2133720"/>
            <a:ext cx="426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The students are talking about when 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a class party / a class meeting / a birthday par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y plan to have it on (Friday evening 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day afternoon / Saturday eve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5"/>
          <p:cNvSpPr/>
          <p:nvPr/>
        </p:nvSpPr>
        <p:spPr>
          <a:xfrm>
            <a:off x="2971800" y="609480"/>
            <a:ext cx="10666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6"/>
          <p:cNvSpPr/>
          <p:nvPr/>
        </p:nvSpPr>
        <p:spPr>
          <a:xfrm>
            <a:off x="838080" y="2895480"/>
            <a:ext cx="205740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7"/>
          <p:cNvSpPr/>
          <p:nvPr/>
        </p:nvSpPr>
        <p:spPr>
          <a:xfrm>
            <a:off x="609480" y="4648320"/>
            <a:ext cx="312444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Section A 2a.mp3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8612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304920" y="6094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b Listen again. Choose the correct short answer in the box to answer each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380880" y="18288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lf the class won’t come    some students will be b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ke some food                    students will leave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party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609480" y="3441600"/>
            <a:ext cx="8915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What will happen if they have the party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alf the class won’t co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What will happen if they have the party tomor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609480" y="5176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udents will leave early to study for th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609480" y="1523880"/>
            <a:ext cx="754380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happen if they watch a video at the pa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Mark organ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Nelly do?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685800" y="1905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me students will be b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685800" y="3200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will organize party g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621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e will make some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0880" y="8380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c. Pair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46200" y="1981080"/>
            <a:ext cx="84978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OK, when is a g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o have the pa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Let’s have i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If we have it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the class won’t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" descr="QQ截图20130813104936.jpg"/>
          <p:cNvPicPr/>
          <p:nvPr/>
        </p:nvPicPr>
        <p:blipFill>
          <a:blip r:embed="rId1"/>
          <a:stretch/>
        </p:blipFill>
        <p:spPr>
          <a:xfrm>
            <a:off x="5410080" y="1371600"/>
            <a:ext cx="3200400" cy="41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1263600"/>
            <a:ext cx="8353440" cy="32385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OK,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good time to have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Let’s have it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it tomorrow, student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 early to study for their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468360" y="54936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啊"/>
          <p:cNvPicPr/>
          <p:nvPr/>
        </p:nvPicPr>
        <p:blipFill>
          <a:blip r:embed="rId1"/>
          <a:stretch/>
        </p:blipFill>
        <p:spPr>
          <a:xfrm>
            <a:off x="2195640" y="4718160"/>
            <a:ext cx="6192720" cy="154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01:06:41Z</dcterms:created>
  <dc:creator/>
  <dc:description/>
  <cp:keywords/>
  <dc:language>en-US</dc:language>
  <cp:lastModifiedBy>微软用户</cp:lastModifiedBy>
  <dcterms:modified xsi:type="dcterms:W3CDTF">2015-12-28T10:11:4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